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F21A-39C1-4585-9CC0-4C294F9609B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h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6248-80DF-466C-8916-27E0589D069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8856-5CE6-4E79-816E-C8ABA08C03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28600" y="609480"/>
            <a:ext cx="4675320" cy="3505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erusalimschy, R., L. H. Figueiredo, et al. (1996). "Lua-an extensible extension language."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Software: Practice &amp; Experience </a:t>
            </a: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26(6): 635-6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46D-4F43-4C4C-A314-C791655F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2BC-6ED7-4AE7-979E-273D1AB8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537-894D-437C-8A1E-8EAA94D7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191-1FEB-4B69-8495-AEBE1120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0C4-4424-4D3F-8230-564E2D58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365-3682-498A-927F-B7BBAB43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159-0720-4AE3-A39F-023D81F5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B8F-08CA-48FF-BFD1-03898A0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968-227A-4FC9-A03B-159EE83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41B-5EA9-4A0E-B77F-2B278C0A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518-B06A-454B-AD05-D1777B70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527-1F1E-4B9E-87BE-D49BA459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FA26-AF03-4BBB-B428-0026E7428C51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ua for TerraME: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A Short Introducti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. S.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ü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7216920" y="4508640"/>
            <a:ext cx="1601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omm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120" y="1557000"/>
            <a:ext cx="8534520" cy="40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uble hyphen 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until the end of the 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 comments start with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--[[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run until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--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"hello"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pt-BR" sz="2400" spc="-1" strike="noStrike">
                <a:solidFill>
                  <a:srgbClr val="00b050"/>
                </a:solidFill>
                <a:latin typeface="Calibri"/>
              </a:rPr>
              <a:t>-- my 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alibri"/>
              </a:rPr>
              <a:t>-- 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b050"/>
                </a:solidFill>
                <a:latin typeface="Calibri"/>
              </a:rPr>
              <a:t>--[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b050"/>
                </a:solidFill>
                <a:latin typeface="Calibri"/>
              </a:rPr>
              <a:t>print(10) -- no action (com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b050"/>
                </a:solidFill>
                <a:latin typeface="Calibri"/>
              </a:rPr>
              <a:t>print(20) -- no action (com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b050"/>
                </a:solidFill>
                <a:latin typeface="Calibri"/>
              </a:rPr>
              <a:t>--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yp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120" y="1412640"/>
            <a:ext cx="853452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ni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120" y="1125360"/>
            <a:ext cx="85345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that does no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)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"a string!!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int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09120" y="1125360"/>
            <a:ext cx="8534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evaluated as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verything else is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ero and the empty string are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3" marL="1330200"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and)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(or)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866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r 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boolea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6" name="Picture 1" descr="Captura de Tela 2013-03-21 às 08.21.54.png"/>
          <p:cNvPicPr/>
          <p:nvPr/>
        </p:nvPicPr>
        <p:blipFill>
          <a:blip r:embed="rId1"/>
          <a:stretch/>
        </p:blipFill>
        <p:spPr>
          <a:xfrm>
            <a:off x="1332000" y="2835360"/>
            <a:ext cx="3263760" cy="2044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aptura de Tela 2013-03-21 às 08.23.47.png"/>
          <p:cNvPicPr/>
          <p:nvPr/>
        </p:nvPicPr>
        <p:blipFill>
          <a:blip r:embed="rId2"/>
          <a:stretch/>
        </p:blipFill>
        <p:spPr>
          <a:xfrm>
            <a:off x="4819680" y="2820960"/>
            <a:ext cx="33526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numb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120" y="1197000"/>
            <a:ext cx="853452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he only type for numeric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ouble-precision floating-point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ithmetic operators: +, –, *, 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onent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^) and modulus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oolean  operators (&lt;, &gt;, &lt;=, &gt;=, ~=, and ==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4.8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2.2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4e+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 ^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A %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7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 &gt; 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 ~=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arenthes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1267920"/>
            <a:ext cx="802800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onal (except in the case of function ca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n doubt, use parenth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+-i &lt; b/2+1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bfbfbf"/>
                </a:solidFill>
                <a:latin typeface="Calibri"/>
              </a:rPr>
              <a:t>&lt;--&gt;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a+(-i)) &lt; ((b/2)+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5+x^2*8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bfbfbf"/>
                </a:solidFill>
                <a:latin typeface="Calibri"/>
              </a:rPr>
              <a:t>&lt;--&gt;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5+((x^2)*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&lt; y and y &lt;= z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bfbfbf"/>
                </a:solidFill>
                <a:latin typeface="Calibri"/>
              </a:rPr>
              <a:t>&lt;--&gt;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a &lt; y) and (y &lt;= 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^y^z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bfbfbf"/>
                </a:solidFill>
                <a:latin typeface="Calibri"/>
              </a:rPr>
              <a:t>&lt;--&gt;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–(x^(y^z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tr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120" y="1916280"/>
            <a:ext cx="8534520" cy="34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gle or double quo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perator 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pt-BR" sz="2400" spc="-1" strike="noStrike">
                <a:solidFill>
                  <a:srgbClr val="00b0f0"/>
                </a:solidFill>
                <a:latin typeface="Calibri"/>
              </a:rPr>
              <a:t>"hello"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pt-BR" sz="2400" spc="-1" strike="noStrike">
                <a:solidFill>
                  <a:srgbClr val="00b0f0"/>
                </a:solidFill>
                <a:latin typeface="Calibri"/>
              </a:rPr>
              <a:t>'hello'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(</a:t>
            </a:r>
            <a:r>
              <a:rPr b="0" lang="pt-BR" sz="2400" spc="-1" strike="noStrike">
                <a:solidFill>
                  <a:srgbClr val="00b0f0"/>
                </a:solidFill>
                <a:latin typeface="Calibri"/>
              </a:rPr>
              <a:t>"x = "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.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(</a:t>
            </a:r>
            <a:r>
              <a:rPr b="0" lang="pt-BR" sz="2400" spc="-1" strike="noStrike">
                <a:solidFill>
                  <a:srgbClr val="00b0f0"/>
                </a:solidFill>
                <a:latin typeface="Calibri"/>
              </a:rPr>
              <a:t>"x = “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or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o repeat other statements, with the following synta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r = exp1, exp2, exp3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alibri"/>
              </a:rPr>
              <a:t>some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loop will execute something for each value of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exp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exp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using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exp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 step to increment var. This third expression is optional (default is 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= 1, 10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alibri"/>
              </a:rPr>
              <a:t>print(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= 1, 10, 2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alibri"/>
              </a:rPr>
              <a:t>print(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f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f statement tests condition and executes its then-part or its else-part (optional) according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b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&lt; 0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lt; 0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lt; b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gt;= b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lt; b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se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&lt; b +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b &lt;= a &lt; b+5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gt; b+5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9120" y="1523880"/>
            <a:ext cx="40388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nly structured 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implement ar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alibri"/>
              </a:rPr>
              <a:t>-- Defining a 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{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alibri"/>
              </a:rPr>
              <a:t>-- Referencing elements of a 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 = 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 + 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800600" y="2421000"/>
            <a:ext cx="40384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-- Length of a 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#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-- Traversing a table 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– FIRS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#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i..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 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x[i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alibri"/>
              </a:rPr>
              <a:t>-- Traversing a table</a:t>
            </a:r>
            <a:r>
              <a:rPr b="0" lang="en-US" sz="1100" spc="-1" strike="noStrike">
                <a:solidFill>
                  <a:srgbClr val="00b050"/>
                </a:solidFill>
                <a:latin typeface="Calibri"/>
              </a:rPr>
              <a:t> – SECOND WA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in pairs(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key: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k,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Value: 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v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erraME uses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Lua </a:t>
            </a:r>
            <a:r>
              <a:rPr b="0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rogramming language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	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551628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http://www.lua.org/manual/5.2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http://www.lua.org/images/logo.gif"/>
          <p:cNvPicPr/>
          <p:nvPr/>
        </p:nvPicPr>
        <p:blipFill>
          <a:blip r:embed="rId1"/>
          <a:stretch/>
        </p:blipFill>
        <p:spPr>
          <a:xfrm>
            <a:off x="6227640" y="4653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6448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s can be indexed not only with numbers, but also with strings or any other value of the language, except n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Defining a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ver =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forest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oad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0.3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Urban =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Referencing elements of a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loc[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cover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loc.cov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.distRoad = loc.distRoad^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.distTotal = loc.distRoad + loc.distUrb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loc.distTo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.deforestationPot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loc.dist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loc.deforestationP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ables within tab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Defining a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cover =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forest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 = {road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urban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Referencing elements of a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loc.dist.ro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.dist.total = loc.dist.road + loc.dist.urb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loc.dist.tot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Traversing a table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 – SECOND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 pairs(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 (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key: 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k,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Value: 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v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120" y="1414080"/>
            <a:ext cx="8534520" cy="48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unction is a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a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codes snipp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can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carry out a specific tas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commonly called procedure) o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compute and return valu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unction is a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irst-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Lu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assigned to a variable  (even a t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passed as parameter to other fun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the returning value of other fun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print = pr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 = n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print(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 = mypr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tandard libraries within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120" y="1184040"/>
            <a:ext cx="85345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 (print, type, tostring, tonumber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 (string.find, string.gsub, string.format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le (table.insert, table.remove, table.sort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h (math.random, math.sin, math.exp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 (io.open, io.read, io.close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 (os.clock, os.execute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bug (debug.getinfo, debug.getlocal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-- 72       1.1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math.pi)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-- 3.141592653589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=  math.sin(math.pi/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+ math.cos(math.pi/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-- angle in radi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a)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 -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os.time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string.find(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pattern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tt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)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– 3   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Lua math librar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st important math func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83358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efinition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120" y="1523880"/>
            <a:ext cx="40388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-- Syntax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0060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-- Syntax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pt-BR" sz="2800" spc="-1" strike="noStrike">
                <a:solidFill>
                  <a:srgbClr val="7030a0"/>
                </a:solidFill>
                <a:latin typeface="Calibri"/>
              </a:rPr>
              <a:t>add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BR" sz="28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t-BR" sz="28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arameters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486080"/>
            <a:ext cx="85345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“and” returns the second argument when the first not 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nil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n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5 is discarded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igh-order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120" y="1125360"/>
            <a:ext cx="85345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s can also be parameters to other functions. This kind of function is what we call a higher-order fun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forEa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ab,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fun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osition, valu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irs(tab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fun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alue, pos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= {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forEa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x,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function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(el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print(el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forEa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x,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function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(value, pos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print(position, val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120" y="134136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le may have their own fun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 =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forest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Road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Urban = 0.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forestPot = function(myl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pt-BR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/(myloc.distRoad + myloc.distUrb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int(loc.deforestPot(loc)) </a:t>
            </a:r>
            <a:r>
              <a:rPr b="0" lang="pt-BR" sz="2000" spc="-1" strike="noStrike">
                <a:solidFill>
                  <a:srgbClr val="00b050"/>
                </a:solidFill>
                <a:latin typeface="Calibri"/>
              </a:rPr>
              <a:t>-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int(loc:deforestPot())</a:t>
            </a:r>
            <a:r>
              <a:rPr b="0" lang="pt-BR" sz="2000" spc="-1" strike="noStrike">
                <a:solidFill>
                  <a:srgbClr val="00b050"/>
                </a:solidFill>
                <a:latin typeface="Calibri"/>
              </a:rPr>
              <a:t> -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96984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can declare a “class” in Lua by creating a function that takes a table constructor as arg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 MyLocation(locda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data.covertype =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forest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data.deforPot = function(sel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(self.distRoad + self.distUrb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loc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 = MyLocation({distRoad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distUrban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 = MyLocation{distRoad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distUrban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loc.covertyp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loc:deforPot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at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120" y="1125360"/>
            <a:ext cx="853452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t another scripting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mple and flex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mple things simple, complex things possibl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mall, Efficient, Port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le library written in ANSI C, compiles the same source code in all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arball for Lua 5.1.4 takes 860K uncompressed. The source contains around 17000 lines of C. Under Linux, the interpreter takes 153K and the library, 203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benchmarks show Lua as the fastest language in the realm of interpreted scripting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 and distributed under MIT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me tips to organize your code – Make it look professional !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2967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ent your code for read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ment your code! You may need understand/explain it 1 year la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neaningfull names to variabl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YES: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ilWater ,  landCover                          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NO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x1, x2, r3, 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void magic numbers! Use UPPERCASE  constant names in head of your  cod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9000" indent="-294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= 1 ,     SIMULATION_STEP = 1,      EMPTY_SEED_BANK = 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llow TerraME naming conven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0866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erraME naming conven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aME adop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American Engli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eighb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eigh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s of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the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upper CamelC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yle, starting with a capital letter, followed by other words starting with capitalized 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t,   Trajectory,   CellularSpace,   SocialNetwor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ames have the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lower CamelC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yle, with names starting with lowercase letters followed by other words starting with capitalized let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, database, forEachCell, db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ew keywords &amp; Clean syntax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 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ywor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are reserved and cannot be used as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strings denote other toke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675560" cy="119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695160" y="4797360"/>
            <a:ext cx="56772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ço Reservado para Rodapé 3"/>
          <p:cNvSpPr/>
          <p:nvPr/>
        </p:nvSpPr>
        <p:spPr>
          <a:xfrm>
            <a:off x="4608360" y="6323040"/>
            <a:ext cx="453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a and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ere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trobras, the Brazilian Oil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atel (the main telecommunication company in Braz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other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a is used in hundreds of projects, both commercial and acade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Lua still in restricted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til recently all documentation was in Portugu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08000" y="2878200"/>
            <a:ext cx="7481880" cy="550800"/>
          </a:xfrm>
          <a:prstGeom prst="rect">
            <a:avLst/>
          </a:prstGeom>
          <a:solidFill>
            <a:srgbClr val="d0d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9000" indent="-189000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alibri"/>
                <a:ea typeface="Arial"/>
              </a:rPr>
              <a:t>Lua is the language of choice for computer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:\LUALOGO.GIF"/>
          <p:cNvPicPr/>
          <p:nvPr/>
        </p:nvPicPr>
        <p:blipFill>
          <a:blip r:embed="rId2"/>
          <a:stretch/>
        </p:blipFill>
        <p:spPr>
          <a:xfrm>
            <a:off x="7696080" y="2428920"/>
            <a:ext cx="1357560" cy="138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Text Box 13"/>
          <p:cNvSpPr/>
          <p:nvPr/>
        </p:nvSpPr>
        <p:spPr>
          <a:xfrm>
            <a:off x="6643800" y="6546960"/>
            <a:ext cx="25002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[Ierusalimschy et al, 199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0" y="6519960"/>
            <a:ext cx="197964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the Lua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  <a:ea typeface="DejaVu Sans"/>
            </a:endParaRPr>
          </a:p>
        </p:txBody>
      </p:sp>
      <p:pic>
        <p:nvPicPr>
          <p:cNvPr id="128" name="Content Placeholder 17" descr="Captura de Tela 2013-04-05 às 18.43.08.png"/>
          <p:cNvPicPr/>
          <p:nvPr/>
        </p:nvPicPr>
        <p:blipFill>
          <a:blip r:embed="rId1"/>
          <a:srcRect l="-18787" t="0" r="-18787" b="0"/>
          <a:stretch/>
        </p:blipFill>
        <p:spPr>
          <a:xfrm>
            <a:off x="-1747800" y="-34920"/>
            <a:ext cx="12701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  <a:ea typeface="DejaVu Sans"/>
            </a:endParaRPr>
          </a:p>
        </p:txBody>
      </p:sp>
      <p:pic>
        <p:nvPicPr>
          <p:cNvPr id="130" name="Content Placeholder 3" descr="Captura de Tela 2013-04-05 às 18.44.24.png"/>
          <p:cNvPicPr/>
          <p:nvPr/>
        </p:nvPicPr>
        <p:blipFill>
          <a:blip r:embed="rId1"/>
          <a:srcRect l="-18490" t="0" r="-18490" b="0"/>
          <a:stretch/>
        </p:blipFill>
        <p:spPr>
          <a:xfrm>
            <a:off x="-1731960" y="-27000"/>
            <a:ext cx="12674520" cy="6885000"/>
          </a:xfrm>
          <a:prstGeom prst="rect">
            <a:avLst/>
          </a:prstGeom>
          <a:ln w="0">
            <a:noFill/>
          </a:ln>
        </p:spPr>
      </p:pic>
      <p:sp>
        <p:nvSpPr>
          <p:cNvPr id="131" name="Oval 4"/>
          <p:cNvSpPr/>
          <p:nvPr/>
        </p:nvSpPr>
        <p:spPr>
          <a:xfrm>
            <a:off x="4176720" y="3344760"/>
            <a:ext cx="647640" cy="2890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2579760" y="406440"/>
            <a:ext cx="539640" cy="2397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3419640" y="3741840"/>
            <a:ext cx="1152360" cy="2761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  <a:ea typeface="DejaVu Sans"/>
            </a:endParaRPr>
          </a:p>
        </p:txBody>
      </p:sp>
      <p:pic>
        <p:nvPicPr>
          <p:cNvPr id="135" name="Content Placeholder 6" descr="Captura de Tela 2013-04-05 às 18.51.11.png"/>
          <p:cNvPicPr/>
          <p:nvPr/>
        </p:nvPicPr>
        <p:blipFill>
          <a:blip r:embed="rId1"/>
          <a:srcRect l="-18734" t="0" r="-18734" b="0"/>
          <a:stretch/>
        </p:blipFill>
        <p:spPr>
          <a:xfrm>
            <a:off x="-1765440" y="4680"/>
            <a:ext cx="126748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Variables and Valu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120" y="1341360"/>
            <a:ext cx="853452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colon ma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ptionall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any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 = a*</a:t>
            </a:r>
            <a:r>
              <a:rPr b="0" lang="pt-BR" sz="24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tiago</cp:lastModifiedBy>
  <dcterms:modified xsi:type="dcterms:W3CDTF">2014-07-24T09:55:12Z</dcterms:modified>
  <cp:revision>427</cp:revision>
  <dc:subject/>
  <dc:title>Low-carbon growth in Brazil?</dc:title>
</cp:coreProperties>
</file>